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5AB8-6BB3-4821-8E31-422E8BA493E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император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Никола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 подгото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9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зина Рег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2560-9659-41A7-B811-ADAF16D9E5E7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альное убийств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овский приказал раздеть мертвецов, запалить костры и всё снятое сжечь. Из женских корсетов, разбитых пулями и штыками, посыпались... жемчуг, бриллианты. Юровский утверждал, что все они были аккуратно собраны и спрятаны на Алапаевском заводе, в подполье одного из домиков. Раздетые трупы спустили в шахту и попытались «завалить» её брошенными туда гранатами. Не все следы удалось скрыть. Кое-что всё же обронили вблизи кострищ и шахты. «Но, - писал Юровский, - Романовых не предполагалось оставлять здесь, - шахта заранее была предназначена стать лишь временным местом их погреб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копали братскую могилу. Трупы сложили в яму, облив серной кислотой. Забросали землёй и хворостом, несколько раз проехали – следов ямы не осталось. К шести часам утра 19 июля всё было кончено. «Секрет был сохранён вполне – этого места погребения белые не нашл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1280-F664-43DF-8939-B8CB0E892375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ва истинная судьба Роман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7DAA-BFE1-43DC-AD38-8A187E562F19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сский цар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най, если убийство совершат твои родственники, то ни один из твоей семьи, родных и детей не проживёт дольше двух лет… Их убьёт русский народ… Меня убьют. Я уже не жилец. Молись. Молись. Будь сильным. Заботься о своём избранном 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следнее письмо Григория Распутина Николаю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кабрь 191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9476-B557-48FB-AE84-79B245A493BD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ийство Никола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го семьи – важнейшая веха в истории России, которая до сего дня вызывает споры и разделения в обществе, следовательно, эта тема очень актуальна. В ней очень много исторических загадок, поэтому предоставляется огромный материал для исследования. Но с другой стороны, из-за несовпадений в разных источниках (например, в советской и современной интерпретациях), очень сложно выяснить, где ложь, а где прав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емьдесят пять лет велась пропагандистская война, в которой участвовали красные и белые, большевики  и монархисты, ненавистники и почитатели Романовых. При этом каждая из враждующих партий использовала в пропаганде и по-своему истолковывала известные нам исторические факты, связанные с последними месяцами пребывания в большевистском плену и последовавшим затем расстрелом последнего русского императора и его семьи. Политические и религиозные разногласия, сложившиеся  ещё до убийства царственных мучеников, продолжают осложнять ситуацию. Официальные советские историки уделяли мало внимания судьбе Романовых. Убийства оправдывались условиями революционной ситуации. Людей убеждали в том, что без кровавых жертв революция, это детище Октября, оказалась бы нежизнеспособной. И никого не заботило, что этими жертвами стали четыре девушки и один мальчик, которые по всем человеческим правилам и законам были ни в чём не повинны, если не считать грехом и величайшим несчастьем то, что они вообще родились. Екатеринбургское убийство обросло домыслами о монархических заговорах, о неизбежности кровопролитий в период Гражданской войны, о том, что мир должен, наконец, сорвать кандалы монархического гнёта и отомстить за смерть юнцов, сражавшихся в окопах Первой мировой вой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D5A4-4E8D-4F39-A134-DFB5B912A30B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змена, и трусость, и обман». От Могилёва до Екатеринбур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D16D-0997-4D25-830C-D1FDE0249502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ковая ошиб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настал роковой для царя и его семьи 1917 год. В конце февраля царский поезд, в котором находился император, выехал из Могилёва. Впоследствии многие мемуаристы оценят отъезд Николая из Могилёва как большую, даже роковую ошиб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CBC3-81C7-4C6F-80F4-4D77C7DFAB25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езд в Екатеринбур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ром 26 апреля «поезд» с частью венценосной семьи покинул Тобольск и взял направление на Екатеринбург. Александра Фёдоровна, считавшая, что её мужа везут в Москву для подписания Брестского мира, пожелала ехать вместе с ним. А их дети в том числе единственный сын Алексей остались, т.к. ему было плохо. 23 мая 1918 г., как только стало лучше цесаревичу Алексею, царские дети, наконец, прибыли в Екатеринбург. Царская семья воссоединилась под крышей дома, ставшего их последней тюрь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BA85-2D42-40EA-89CF-8AAF2724D83F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к расстре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ждались самые разные варианты – предлагалось заколоть или расстрелять жертвы во время сна или забросать их ручными гранатами; наконец от этих планов было решено отказаться в пользу массового расстрела пленников. Самым безопасным казалось увезти царскую семью из Ипатьевского дома, отвезти её в какое-нибудь глухое место и расстрелять. Однако подобный план заключал в себе и определённую опасность: дело в том, что силы чехословаков и белогвардейцев находились настолько близко от города, что не было никакой гарантии, что они не прорвутся сквозь жидкие ряды красноармейцев, оборонявших Екатеринбург, и не помешают планам убийства. В итоге Юровскому не оставалось ничего иного, как убить Романовых непосредственно в Ипатьевском доме, поскольку в таком случае у них не было ни возможности оказать сопротивление, ни шансов спаст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E054-D86E-46B8-B51B-07FD48739B48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3887-B21C-42A0-9A7D-09DFBCC1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672-12B8-4A42-93A6-D897FAA4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6BCB-9CE2-4D16-A91E-118B4938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F0FA-E852-4C9E-BDEA-4DD97D33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27C4-8504-41B9-AA3F-D26371A9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F118-0F98-46E2-94B0-1BF0A5FC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18FB-8FA2-4EDE-BEE8-3DB18F53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0E09-1DBA-4194-94F2-A2C10E25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6A80-4209-4892-859E-DA3CA65A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0CB5-ABA3-46A3-B7A0-5258EF7E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677C-82D7-448F-B4FF-24040BD6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640-0FDC-41D0-B50D-8E1B0DB3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63B3-D07A-44DC-B842-3A1F274F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9CD0-0379-4FDA-ADA4-337C8FB9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CB4F-F67C-4EB2-A883-88C6F1D0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D678-97D7-4FF2-A132-DA633F3E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2E07-CA5B-4E4D-ACC4-26A13336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784-9BBD-448A-9BBA-5F9C3F1B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DC08-A5B0-49E4-A510-FFE65C24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0F7-9BC9-430C-A59E-825A2A78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6A8D-2A7E-4893-B9AA-BE5ACEAF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8723-6F5D-4647-9EAD-AEED4956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BFD-0C4E-4B1D-A3D2-C756B1F9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73DB-3216-49FE-B785-9FE9AF60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F77E-83D7-4BF9-9EBF-21A5C9EC705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50000">
                  <a:srgbClr val="9c9800"/>
                </a:gs>
                <a:gs pos="100000">
                  <a:srgbClr val="a5a7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4f4ec"/>
                </a:gs>
                <a:gs pos="100000">
                  <a:srgbClr val="a5a7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811D-B2AE-4C18-88C1-DC8661101F7D}" type="slidenum">
              <a:rPr b="0" lang="ru-RU" sz="10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1915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Последний император</a:t>
            </a:r>
            <a:br>
              <a:rPr sz="4400"/>
            </a:b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           Николай </a:t>
            </a: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II </a:t>
            </a: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14720" y="3500280"/>
            <a:ext cx="36954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Доклад подготовил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Ученица 9А класс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Танзина Регин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18" name="Picture 6" descr="nikolay-rz "/>
          <p:cNvPicPr/>
          <p:nvPr/>
        </p:nvPicPr>
        <p:blipFill>
          <a:blip r:embed="rId1"/>
          <a:stretch/>
        </p:blipFill>
        <p:spPr>
          <a:xfrm>
            <a:off x="1476360" y="3500280"/>
            <a:ext cx="2206800" cy="30499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_44615022_woods"/>
          <p:cNvPicPr/>
          <p:nvPr/>
        </p:nvPicPr>
        <p:blipFill>
          <a:blip r:embed="rId1"/>
          <a:stretch/>
        </p:blipFill>
        <p:spPr>
          <a:xfrm rot="360000">
            <a:off x="179280" y="3357360"/>
            <a:ext cx="1933560" cy="1447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_240111"/>
          <p:cNvPicPr/>
          <p:nvPr/>
        </p:nvPicPr>
        <p:blipFill>
          <a:blip r:embed="rId2"/>
          <a:stretch/>
        </p:blipFill>
        <p:spPr>
          <a:xfrm rot="1260000">
            <a:off x="5651640" y="393372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Детальное убийство…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Юровский приказал раздеть мертвецов, запалить костры и всё снятое сжечь. Из женских корсетов, разбитых пулями и штыками, посыпались... жемчуг, бриллианты. Юровский утверждал, что все они были аккуратно собраны и спрятаны на Алапаевском заводе, в подполье одного из домиков. Раздетые трупы спустили в шахту и попытались «завалить» её брошенными туда гранатами. Не все следы удалось скрыть. Кое-что всё же обронили вблизи кострищ и шахты. «Но, - писал Юровский, - Романовых не предполагалось оставлять здесь, - шахта заранее была предназначена стать лишь временным местом их погребения».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Выкопали братскую могилу. Трупы сложили в яму, облив серной кислотой. Забросали землёй и хворостом, несколько раз проехали – следов ямы не осталось. К шести часам утра 19 июля всё было кончено. «Секрет был сохранён вполне – этого места погребения белые не нашли»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62" name="Picture 5" descr="03_01_01"/>
          <p:cNvPicPr/>
          <p:nvPr/>
        </p:nvPicPr>
        <p:blipFill>
          <a:blip r:embed="rId3"/>
          <a:stretch/>
        </p:blipFill>
        <p:spPr>
          <a:xfrm rot="21360000">
            <a:off x="250560" y="5516640"/>
            <a:ext cx="2016000" cy="10159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nikolay2"/>
          <p:cNvPicPr/>
          <p:nvPr/>
        </p:nvPicPr>
        <p:blipFill>
          <a:blip r:embed="rId1"/>
          <a:stretch/>
        </p:blipFill>
        <p:spPr>
          <a:xfrm>
            <a:off x="3635280" y="1484280"/>
            <a:ext cx="3529080" cy="2824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88569"/>
                </a:solidFill>
                <a:latin typeface="Tahoma"/>
              </a:rPr>
              <a:t>Такова истинная судьба Романовых. 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67" name="Picture 5" descr="Николай Второй и семья"/>
          <p:cNvPicPr/>
          <p:nvPr/>
        </p:nvPicPr>
        <p:blipFill>
          <a:blip r:embed="rId2"/>
          <a:stretch/>
        </p:blipFill>
        <p:spPr>
          <a:xfrm>
            <a:off x="971640" y="1844640"/>
            <a:ext cx="2857320" cy="2828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nikolai"/>
          <p:cNvPicPr/>
          <p:nvPr/>
        </p:nvPicPr>
        <p:blipFill>
          <a:blip r:embed="rId3"/>
          <a:stretch/>
        </p:blipFill>
        <p:spPr>
          <a:xfrm>
            <a:off x="6012000" y="3429000"/>
            <a:ext cx="2735280" cy="2255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09_Император Николай II с семьей (слева "/>
          <p:cNvPicPr/>
          <p:nvPr/>
        </p:nvPicPr>
        <p:blipFill>
          <a:blip r:embed="rId4"/>
          <a:stretch/>
        </p:blipFill>
        <p:spPr>
          <a:xfrm>
            <a:off x="3059280" y="4076640"/>
            <a:ext cx="2790720" cy="23256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73" name="Picture 4" descr="36D042D1-DD8B-4328-BCCE-7AC31B874F01_mw800_mh600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Николай </a:t>
            </a: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II 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404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Русский царь!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Знай, если убийство совершат твои родственники, то ни один из твоей семьи, родных и детей не проживёт дольше двух лет… Их убьёт русский народ… Меня убьют. Я уже не жилец. Молись. Молись. Будь сильным. Заботься о своём избранном роде.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                                      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Последнее письмо Григория Распутина Николаю </a:t>
            </a:r>
            <a:r>
              <a:rPr b="0" i="1" lang="en-US" sz="1800" spc="-1" strike="noStrike">
                <a:solidFill>
                  <a:srgbClr val="4a2500"/>
                </a:solidFill>
                <a:latin typeface="Tahoma"/>
              </a:rPr>
              <a:t>II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.       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Декабрь 1916 г.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22" name="Picture 8" descr="ИльяГалкин-портретИмператораНиколаяII"/>
          <p:cNvPicPr/>
          <p:nvPr/>
        </p:nvPicPr>
        <p:blipFill>
          <a:blip r:embed="rId1"/>
          <a:stretch/>
        </p:blipFill>
        <p:spPr>
          <a:xfrm>
            <a:off x="1152360" y="1981080"/>
            <a:ext cx="352296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Введение…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86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Убийство Николая </a:t>
            </a:r>
            <a:r>
              <a:rPr b="0" lang="en-US" sz="1600" spc="-1" strike="noStrike">
                <a:solidFill>
                  <a:srgbClr val="4a2500"/>
                </a:solidFill>
                <a:latin typeface="Tahoma"/>
              </a:rPr>
              <a:t>II</a:t>
            </a: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 и его семьи – важнейшая веха в истории России, которая до сего дня вызывает споры и разделения в обществе, следовательно, эта тема очень актуальна. В ней очень много исторических загадок, поэтому предоставляется огромный материал для исследования. Но с другой стороны, из-за несовпадений в разных источниках (например, в советской и современной интерпретациях), очень сложно выяснить, где ложь, а где правда.</a:t>
            </a:r>
            <a:endParaRPr b="0" lang="en-US" sz="1600" spc="-1" strike="noStrike">
              <a:solidFill>
                <a:srgbClr val="4a25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Восемьдесят пять лет велась пропагандистская война, в которой участвовали красные и белые, большевики  и монархисты, ненавистники и почитатели Романовых. При этом каждая из враждующих партий использовала в пропаганде и по-своему истолковывала известные нам исторические факты, связанные с последними месяцами пребывания в большевистском плену и последовавшим затем расстрелом последнего русского императора и его семьи. Политические и религиозные разногласия, сложившиеся  ещё до убийства царственных мучеников, продолжают осложнять ситуацию. Официальные советские историки уделяли мало внимания судьбе Романовых. Убийства оправдывались условиями революционной ситуации. Людей убеждали в том, что без кровавых жертв революция, это детище Октября, оказалась бы нежизнеспособной. И никого не заботило, что этими жертвами стали четыре девушки и один мальчик, которые по всем человеческим правилам и законам были ни в чём не повинны, если не считать грехом и величайшим несчастьем то, что они вообще родились. Екатеринбургское убийство обросло домыслами о монархических заговорах, о неизбежности кровопролитий в период Гражданской войны, о том, что мир должен, наконец, сорвать кандалы монархического гнёта и отомстить за смерть юнцов, сражавшихся в окопах Первой мировой войны.</a:t>
            </a:r>
            <a:r>
              <a:rPr b="0" lang="ru-RU" sz="1500" spc="-1" strike="noStrike">
                <a:solidFill>
                  <a:srgbClr val="4a2500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image001"/>
          <p:cNvPicPr/>
          <p:nvPr/>
        </p:nvPicPr>
        <p:blipFill>
          <a:blip r:embed="rId1"/>
          <a:stretch/>
        </p:blipFill>
        <p:spPr>
          <a:xfrm>
            <a:off x="1763640" y="1557360"/>
            <a:ext cx="2255760" cy="4780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88569"/>
                </a:solidFill>
                <a:latin typeface="Tahoma"/>
              </a:rPr>
              <a:t>«Измена, и трусость, и обман». От Могилёва до Екатеринбурга.</a:t>
            </a: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30" name="Picture 6" descr="0NikAlVForKonnPolk"/>
          <p:cNvPicPr/>
          <p:nvPr/>
        </p:nvPicPr>
        <p:blipFill>
          <a:blip r:embed="rId2"/>
          <a:stretch/>
        </p:blipFill>
        <p:spPr>
          <a:xfrm>
            <a:off x="5076720" y="1916280"/>
            <a:ext cx="3695760" cy="270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Nicholas_II_of_Russia_painted_by_Earnest_Lipgart"/>
          <p:cNvPicPr/>
          <p:nvPr/>
        </p:nvPicPr>
        <p:blipFill>
          <a:blip r:embed="rId3"/>
          <a:stretch/>
        </p:blipFill>
        <p:spPr>
          <a:xfrm>
            <a:off x="3564000" y="3429000"/>
            <a:ext cx="2038320" cy="30481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pict"/>
          <p:cNvPicPr/>
          <p:nvPr/>
        </p:nvPicPr>
        <p:blipFill>
          <a:blip r:embed="rId1"/>
          <a:stretch/>
        </p:blipFill>
        <p:spPr>
          <a:xfrm rot="660000">
            <a:off x="3779640" y="47242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Роковая ошибка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Итак, настал роковой для царя и его семьи 1917 год. В конце февраля царский поезд, в котором находился император, выехал из Могилёва. Впоследствии многие мемуаристы оценят отъезд Николая из Могилёва как большую, даже роковую ошибку. 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36" name="Picture 5" descr="par01"/>
          <p:cNvPicPr/>
          <p:nvPr/>
        </p:nvPicPr>
        <p:blipFill>
          <a:blip r:embed="rId2"/>
          <a:stretch/>
        </p:blipFill>
        <p:spPr>
          <a:xfrm rot="21120000">
            <a:off x="4788000" y="2205000"/>
            <a:ext cx="3695760" cy="26132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Переезд в Екатеринбург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92720" y="1412640"/>
            <a:ext cx="3695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Tahoma"/>
              </a:rPr>
              <a:t>Утром 26 апреля «поезд» с частью венценосной семьи покинул Тобольск и взял направление на Екатеринбург. Александра Фёдоровна, считавшая, что её мужа везут в Москву для подписания Брестского мира, пожелала ехать вместе с ним. А их дети в том числе единственный сын Алексей остались, т.к. ему было плохо. 23 мая 1918 г., как только стало лучше цесаревичу Алексею, царские дети, наконец, прибыли в Екатеринбург. Царская семья воссоединилась под крышей дома, ставшего их последней тюрьмой. 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40" name="Picture 5" descr="Russian_Royal_Family,_1911"/>
          <p:cNvPicPr/>
          <p:nvPr/>
        </p:nvPicPr>
        <p:blipFill>
          <a:blip r:embed="rId1"/>
          <a:stretch/>
        </p:blipFill>
        <p:spPr>
          <a:xfrm>
            <a:off x="1042920" y="2276640"/>
            <a:ext cx="4368960" cy="36367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Ipatjew-Haus1"/>
          <p:cNvPicPr/>
          <p:nvPr/>
        </p:nvPicPr>
        <p:blipFill>
          <a:blip r:embed="rId1"/>
          <a:stretch/>
        </p:blipFill>
        <p:spPr>
          <a:xfrm>
            <a:off x="250920" y="3573360"/>
            <a:ext cx="4249800" cy="2803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45" name="Picture 5" descr="03_Император Николай II с семьей"/>
          <p:cNvPicPr/>
          <p:nvPr/>
        </p:nvPicPr>
        <p:blipFill>
          <a:blip r:embed="rId2"/>
          <a:stretch/>
        </p:blipFill>
        <p:spPr>
          <a:xfrm>
            <a:off x="3492360" y="981000"/>
            <a:ext cx="4969080" cy="4008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Николай Второй и семья"/>
          <p:cNvPicPr/>
          <p:nvPr/>
        </p:nvPicPr>
        <p:blipFill>
          <a:blip r:embed="rId3"/>
          <a:stretch/>
        </p:blipFill>
        <p:spPr>
          <a:xfrm>
            <a:off x="1042920" y="549360"/>
            <a:ext cx="2857680" cy="2828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romanov_family2"/>
          <p:cNvPicPr/>
          <p:nvPr/>
        </p:nvPicPr>
        <p:blipFill>
          <a:blip r:embed="rId4"/>
          <a:stretch/>
        </p:blipFill>
        <p:spPr>
          <a:xfrm>
            <a:off x="5796000" y="4076640"/>
            <a:ext cx="2808360" cy="2643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88569"/>
                </a:solidFill>
                <a:latin typeface="Tahoma"/>
              </a:rPr>
              <a:t>Подготовка к расстрелу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7543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Tahoma"/>
              </a:rPr>
              <a:t>Обсуждались самые разные варианты – предлагалось заколоть или расстрелять жертвы во время сна или забросать их ручными гранатами; наконец от этих планов было решено отказаться в пользу массового расстрела пленников. Самым безопасным казалось увезти царскую семью из Ипатьевского дома, отвезти её в какое-нибудь глухое место и расстрелять. Однако подобный план заключал в себе и определённую опасность: дело в том, что силы чехословаков и белогвардейцев находились настолько близко от города, что не было никакой гарантии, что они не прорвутся сквозь жидкие ряды красноармейцев, оборонявших Екатеринбург, и не помешают планам убийства. В итоге Юровскому не оставалось ничего иного, как убить Романовых непосредственно в Ипатьевском доме, поскольку в таком случае у них не было ни возможности оказать сопротивление, ни шансов спастись. 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54" name="Picture 4" descr="nik2_8"/>
          <p:cNvPicPr/>
          <p:nvPr/>
        </p:nvPicPr>
        <p:blipFill>
          <a:blip r:embed="rId1"/>
          <a:stretch/>
        </p:blipFill>
        <p:spPr>
          <a:xfrm>
            <a:off x="4284720" y="476280"/>
            <a:ext cx="4248000" cy="3270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36D042D1-DD8B-4328-BCCE-7AC31B874F01_mw800_mh600"/>
          <p:cNvPicPr/>
          <p:nvPr/>
        </p:nvPicPr>
        <p:blipFill>
          <a:blip r:embed="rId2"/>
          <a:stretch/>
        </p:blipFill>
        <p:spPr>
          <a:xfrm>
            <a:off x="611280" y="1773360"/>
            <a:ext cx="4602240" cy="3450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Foto-podval"/>
          <p:cNvPicPr/>
          <p:nvPr/>
        </p:nvPicPr>
        <p:blipFill>
          <a:blip r:embed="rId3"/>
          <a:stretch/>
        </p:blipFill>
        <p:spPr>
          <a:xfrm>
            <a:off x="4140360" y="4149720"/>
            <a:ext cx="3840120" cy="23018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3:15:44Z</dcterms:created>
  <dc:creator>7</dc:creator>
  <dc:description/>
  <dc:language>en-US</dc:language>
  <cp:lastModifiedBy>LEGION</cp:lastModifiedBy>
  <dcterms:modified xsi:type="dcterms:W3CDTF">2015-01-15T12:28:06Z</dcterms:modified>
  <cp:revision>8</cp:revision>
  <dc:subject/>
  <dc:title>Последний император            Николай 2.</dc:title>
</cp:coreProperties>
</file>